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39F9-C9EB-4074-91C8-6CD7F54B4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373B-C0DE-44E8-96FF-09C3FA13F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9443-7172-47C3-813D-5A752D407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BE57-ACEE-4DDF-9C8F-E97DBE716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140C-9DDC-458C-8233-BFBE7A409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CCCF-F791-4EFE-9544-34188A8DF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E7BA-7C31-4B60-A351-C373B1E90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55EC-B09E-4A90-BF4E-3D0D474A6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97D2-F56C-4C2A-91B2-1B13260C6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14D1-948A-4963-9D2A-D31B29A22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AFFF-6691-4E84-A6BA-C3A892090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8593-E990-41D2-8E52-0175EA528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75F8-67C7-40FE-A8AE-2EA26C027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528A-C30F-424F-B7C9-6908EC294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7A48-0CEF-442D-BF63-4EF0FE0FB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4DB4-8966-4ED3-9B54-F4C333D73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8FD3-D1EA-4982-BAE1-144907260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1A6D-FAB8-4460-B53E-3900AF484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4EDC-B61D-4069-920F-38B65DD61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263D-8DE5-4A38-9D76-717679504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4FDE-C3B9-4033-A1B6-C514E2561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86E3-F823-4ADA-819F-93530C837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F877-86D2-479B-A697-8F90712B2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CB97-5C9F-4588-917F-FE44A3E9B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A661-623C-44F4-BFDD-98BECD6A4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F206-4968-4DD3-8E87-B21C8816E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9F6D-CCE9-42CD-B1FD-210982EE9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8D3A-8CD6-4845-AC00-9B4AC18DC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6F24-E889-4FD3-8C38-A2D3A4899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8068-F44D-4052-B25C-296B72D8F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5E5E-0996-47EB-8E9A-83861854F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2FF3-D601-40A7-8144-303A885C5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922A-262A-4FB4-BD61-3D64DA683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4473-C0D7-4B21-827B-F8BD5DB4D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F39D-C371-4403-8B6C-D5171E6CE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B58B-8647-42A0-9AD8-C8FA58DC6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DFF2-CF88-40CE-8652-5C6EC8B16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E118-1A18-4945-8A33-CF5522F58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1C47-2D31-4CB5-849F-2BAB58948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C611-9D47-407F-BD13-AFA6D2CE4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E393-C9AB-411A-A2D0-23EBF5654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1C1E-4367-48AA-99B4-D558CDCD8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6DFE-944E-4846-8598-AD2D127A8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C204-889D-46E1-AA0C-20A00429B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09D3-0678-4949-9C8C-266E8BBCB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5070-784B-44A8-BCEA-8D363F307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3288-7957-4FFB-B6DC-F35491DC8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9516-A41C-4FAD-B56F-4656A5C7C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F09B-071B-4290-906F-1934279EC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6722-6DC0-493E-84A6-C56576DB4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45FC-2D00-4D50-BA73-D50DE5441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97FC-E737-48A2-BD7B-8440EF79F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E027-7FCA-4586-9FC0-4FCFAE575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150-D35E-4742-8823-DAE7E260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02E-761B-4C8E-BFB3-5BFCC90C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522-2283-4C33-97C8-E4FC19D7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48B-52D1-411C-AEB8-F5196DF0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9190-6228-4478-AE0A-7BA0754D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43A8-3EB8-45C0-9043-106E4369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39EC-B6E9-4FBF-9B7D-C3D627DA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9A46-7CBB-4819-8409-453F0997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3C20-AD31-4DA0-8C8F-CDA8005F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1E70-E119-4FCB-9EDA-E365B1A6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BA61-C051-41FB-A104-BC3AE974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8A7-045F-4E81-84E2-D8F07162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E6C1-1980-4E47-A0F4-CCB665F2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7A64-480D-4A3D-9316-B7486994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21C8-91CC-4C2B-9A5E-A7BF0EC6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C42F-A13C-421B-A283-8904B831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8A3E-9C0A-4A79-8294-144C7368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8C3-C253-4F85-879D-B80B71FA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D5B-DA4E-4EFB-B0E8-8D143EE6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81E-6A1E-40E5-91F4-04986F9C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960-F466-4098-B289-22AD2ED1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3B5-3B2D-4B50-9749-7368A08F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E36-CCDC-446E-97E5-FD328ED1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BB5-116F-4C3A-893A-B2A01971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66FE-BE80-4AAA-BEF6-0529D58D9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095720"/>
            <a:ext cx="709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suffered a stro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dbury was born in 199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, he was born in 19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did not go to colleg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was married three tim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, he was only married one tim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died in Los Angles Californ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ue/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wa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Fahrenheit 451 written by Ra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/N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To kill a MockingBird written by R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 or 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the Pendulum written by Ra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/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 it w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Something Wicked This Way Comes written by Ra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many kids did Ray hav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,2,3,or 4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 it w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once won a 2003 country music awar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got an impact crater on the moon named after one of his book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got a meteor named after hi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got a rover landing site named after him on the planet Ma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had 4 k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Ray’s wife’s nam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san, Marguerite, Molly, Margaret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’s wife’s name is Marguerit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dbury was friends with what creator of a famous movie seri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e Roddenberry(Star Trek), George Lucas(Star Wars), or J.K Rowling( Harry Pott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e Roddenber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ed to Ray in 1999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suffered a stroke, He was diagnosed with cancer, he had to get operated 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mormat17</cp:lastModifiedBy>
  <dcterms:modified xsi:type="dcterms:W3CDTF">2013-11-01T17:01:58Z</dcterms:modified>
  <cp:revision>25</cp:revision>
  <dc:subject>Jeopardy Template</dc:subject>
  <dc:title>POWERPOINT JEOPARDY</dc:title>
</cp:coreProperties>
</file>